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228-FA5D-4B0F-94F8-9FA2F468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FE3-79FB-4257-AD66-6D0C70B7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4AF-0D91-4E88-8DE9-8A93238A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1A7-9D24-4DFA-9F03-8DBAA452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7AC-DD95-40FE-85B8-7C2CE9E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653-E123-407C-BB0E-04156F94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150-A921-4E0A-9328-58EA73E1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0F0-8349-4722-B3F4-8CA5976C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E60-7477-4AD2-8C67-2988F6CF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D9D-3A51-467E-B5AF-2EE61280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976-9CC6-4E80-B9DB-C8AD70D2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AC7-085A-4626-91A5-CE3404E9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0A04-CB9F-4261-AC6F-0E6F2F9B15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000" spc="-1" strike="noStrike">
                <a:solidFill>
                  <a:srgbClr val="990000"/>
                </a:solidFill>
                <a:latin typeface="Arial"/>
              </a:rPr>
              <a:t>eGovernment by 2010: </a:t>
            </a:r>
            <a:br>
              <a:rPr sz="4000"/>
            </a:br>
            <a:r>
              <a:rPr b="0" lang="is-IS" sz="4000" spc="-1" strike="noStrike">
                <a:solidFill>
                  <a:srgbClr val="990000"/>
                </a:solidFill>
                <a:latin typeface="Arial"/>
              </a:rPr>
              <a:t>From Utopia to Realis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465440" cy="403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23240" y="587520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Lone Dybkjær M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97800" y="53737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IST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459640" y="6500880"/>
            <a:ext cx="5493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44384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Realisation of eGovernment is </a:t>
            </a:r>
            <a:r>
              <a:rPr b="1" lang="is-IS" sz="2400" spc="-1" strike="noStrike">
                <a:solidFill>
                  <a:srgbClr val="990000"/>
                </a:solidFill>
                <a:latin typeface="Arial"/>
              </a:rPr>
              <a:t>NOT</a:t>
            </a: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 only a question of technology but one of </a:t>
            </a:r>
            <a:r>
              <a:rPr b="1" lang="is-IS" sz="2400" spc="-1" strike="noStrike">
                <a:solidFill>
                  <a:srgbClr val="990000"/>
                </a:solidFill>
                <a:latin typeface="Arial"/>
              </a:rPr>
              <a:t>MOTIVATING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990000"/>
                </a:solidFill>
                <a:latin typeface="Arial"/>
              </a:rPr>
              <a:t>MOTIVATION</a:t>
            </a: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 gender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Internet a household word like roads, water, electricity,  telephone and postal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Trust and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990000"/>
                </a:solidFill>
                <a:latin typeface="Arial"/>
              </a:rPr>
              <a:t>dotEU</a:t>
            </a:r>
            <a:r>
              <a:rPr b="0" lang="is-IS" sz="2000" spc="-1" strike="noStrike">
                <a:solidFill>
                  <a:srgbClr val="990000"/>
                </a:solidFill>
                <a:latin typeface="Arial"/>
              </a:rPr>
              <a:t> historic opport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990000"/>
                </a:solidFill>
                <a:latin typeface="Arial"/>
              </a:rPr>
              <a:t>European Internet Region of Trust and Conf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8160" y="189000"/>
            <a:ext cx="38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600" spc="-1" strike="noStrike">
                <a:solidFill>
                  <a:srgbClr val="990000"/>
                </a:solidFill>
                <a:latin typeface="Arial"/>
              </a:rPr>
              <a:t>Realisation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241800" cy="243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459640" y="6485040"/>
            <a:ext cx="5763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52720" y="-360"/>
            <a:ext cx="518148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600" spc="-1" strike="noStrike">
                <a:solidFill>
                  <a:srgbClr val="990000"/>
                </a:solidFill>
                <a:latin typeface="Arial"/>
              </a:rPr>
              <a:t>Realisation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990000"/>
                </a:solidFill>
                <a:latin typeface="Arial"/>
              </a:rPr>
              <a:t>Cultur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Right to use own language and alphab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s-IS" sz="2400" spc="-1" strike="noStrike">
                <a:solidFill>
                  <a:srgbClr val="3333cc"/>
                </a:solidFill>
                <a:latin typeface="Arial"/>
              </a:rPr>
              <a:t>Dybkjær</a:t>
            </a: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is-IS" sz="2400" spc="-1" strike="noStrike">
                <a:solidFill>
                  <a:srgbClr val="990000"/>
                </a:solidFill>
                <a:latin typeface="Arial"/>
              </a:rPr>
              <a:t>NOT</a:t>
            </a: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is-IS" sz="2400" spc="-1" strike="noStrike">
                <a:solidFill>
                  <a:srgbClr val="3333cc"/>
                </a:solidFill>
                <a:latin typeface="Arial"/>
              </a:rPr>
              <a:t>Dybkja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990000"/>
                </a:solidFill>
                <a:latin typeface="Arial"/>
              </a:rPr>
              <a:t>Leg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Right to use own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 u="sng">
                <a:solidFill>
                  <a:srgbClr val="3333cc"/>
                </a:solidFill>
                <a:uFillTx/>
                <a:latin typeface="Arial"/>
              </a:rPr>
              <a:t>Lone.Dybkjær@abc.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Same laws across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990000"/>
                </a:solidFill>
                <a:latin typeface="Arial"/>
              </a:rPr>
              <a:t>Simple Dispute Resol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27640" y="765000"/>
            <a:ext cx="2208240" cy="228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472600" y="6492960"/>
            <a:ext cx="5634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0" dur="1" fill="hold"/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/>
                                  <p:tgtEl>
                                    <p:spTgt spid="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6069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600" spc="-1" strike="noStrike">
                <a:solidFill>
                  <a:srgbClr val="990000"/>
                </a:solidFill>
                <a:latin typeface="Arial"/>
              </a:rPr>
              <a:t>Realisation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990000"/>
                </a:solidFill>
                <a:latin typeface="Arial"/>
              </a:rPr>
              <a:t>User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990000"/>
                </a:solidFill>
                <a:latin typeface="Arial"/>
              </a:rPr>
              <a:t>Citizens, consum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990000"/>
                </a:solidFill>
                <a:latin typeface="Arial"/>
              </a:rPr>
              <a:t>SMEs must be re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990000"/>
                </a:solidFill>
                <a:latin typeface="Arial"/>
              </a:rPr>
              <a:t>European Internet Governance User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990000"/>
                </a:solidFill>
                <a:latin typeface="Arial"/>
              </a:rPr>
              <a:t>CECUA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 u="sng">
                <a:solidFill>
                  <a:srgbClr val="3333cc"/>
                </a:solidFill>
                <a:uFillTx/>
                <a:latin typeface="Arial"/>
              </a:rPr>
              <a:t>www.cecua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is-IS" sz="2400" spc="-1" strike="noStrike">
                <a:solidFill>
                  <a:srgbClr val="990000"/>
                </a:solidFill>
                <a:latin typeface="Arial"/>
              </a:rPr>
              <a:t>Other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990000"/>
                </a:solidFill>
                <a:latin typeface="Arial"/>
              </a:rPr>
              <a:t>Social ex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990000"/>
                </a:solidFill>
                <a:latin typeface="Arial"/>
              </a:rPr>
              <a:t>Digital Divide – North/Sou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990000"/>
                </a:solidFill>
                <a:latin typeface="Arial"/>
              </a:rPr>
              <a:t>Cost barriers - Removal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03640" y="981000"/>
            <a:ext cx="3711600" cy="252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459640" y="6453360"/>
            <a:ext cx="5637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4" dur="1" fill="hold"/>
                                  <p:tgtEl>
                                    <p:spTgt spid="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/>
                                  <p:tgtEl>
                                    <p:spTgt spid="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6" dur="1" fill="hold"/>
                                  <p:tgtEl>
                                    <p:spTgt spid="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0:01:35Z</dcterms:created>
  <dc:creator>Jón Þór Þórhallsson</dc:creator>
  <dc:description/>
  <dc:language>en-US</dc:language>
  <cp:lastModifiedBy>Jón Þór Þórhallsson</cp:lastModifiedBy>
  <dcterms:modified xsi:type="dcterms:W3CDTF">2002-11-08T07:38:42Z</dcterms:modified>
  <cp:revision>40</cp:revision>
  <dc:subject/>
  <dc:title>“eGovernment by 2010:  From Utopia to Realisation”</dc:title>
</cp:coreProperties>
</file>